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8.png" ContentType="image/png"/>
  <Override PartName="/ppt/media/image3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</p:sldIdLst>
  <p:sldSz cx="9144000" cy="6858000"/>
  <p:notesSz cx="6811963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112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2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92232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3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4"/>
          </p:nvPr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7318-57DD-4282-AA32-54381221F3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1462-C029-44B9-950C-E13EE88E05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96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5920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67E3-A045-498A-B582-15B4C40A0E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BF8-8556-4995-870E-7612D0B8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72D-9DF4-4697-AB95-B2DA4DDB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907-14A0-494E-B1B1-82FFC51D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646-DEF0-444D-B472-45C2B04E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0F14-D237-4D02-B304-99AE16D6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6DD7-9CF0-415D-952F-B5E8A84A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BAFA-3897-4453-A6D9-A684A78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0071-0A8A-4CAE-B0A6-41DCAC3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95A-8755-4387-829D-895D2BF1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B4C0-6C34-4FC5-8C9B-A2627735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FC13-65B2-457A-B0BB-8D0B7C9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868-9FB0-474D-A2BB-1912678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4883-C11B-45CF-B350-F399F53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9BE6-948F-4F9B-AA0C-C46CF95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5A04-7077-4336-8B7A-EC3D1B1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2C8B-DACB-462A-A88C-B5BED5C2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65B6-BDAC-4633-92EF-02D9BD2E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E800-0B9F-4550-939D-3850FCDE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0CC1-F9F4-48B3-B371-DFA049F4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3DB5-2BD5-48EE-AE0B-E6E7FB59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124DD-F147-4F6F-B0DA-138732C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96A0-2F1E-4C95-A694-87AB0F06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F11-3BB8-4608-85C6-ABE5B70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DA663-D937-48B4-9B8F-43D0A598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85BC-A73E-4E9C-A10D-3C5103E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5C9B-DEE9-4E6A-B51E-48FEDBB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0F98-6024-4B54-B574-D52878B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9099-304B-4632-B516-1D33F796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A5BB-A36D-438D-9964-858EAD49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2802-C5D3-4A4E-9423-C6B4BA53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749B0-4B0F-4599-BDF6-BD0D2601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6A1C-7039-41B3-9C90-91D66D11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B98D-7845-4AC0-BCE1-7C25E90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F24-D8D5-418B-B4EF-923B39F4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E071B-FDE8-4427-BA24-A4AE4ADF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5A5B-B74E-40B9-8393-3D867B6C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B98B-29B7-422E-88C1-474494A7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3A713-AFCA-4765-8E4A-ACBEF0E6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BBD1E-C6C0-4D07-A38A-5D557B58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25DA-0D15-463F-9653-B11D36E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8F013-32C0-49A7-8F76-A7A196BD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BB919-D21D-4D04-BC77-56205C9D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7065A-FF4E-4708-B5A5-D6C5E837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141E-0898-4022-BE84-A647E77D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BCC-E84B-4645-AEF5-31295128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DFA3-3C78-4308-9CA6-3F9E40CA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FF479-0B07-4842-9E1F-2D59383E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AA5D-08D1-4F52-A00F-38DD963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E14E3-BF05-4D9F-A754-8C2E59C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E375-0F82-4C75-BF06-69DD6CD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8FF4-EF4F-4A51-BA17-0250EE4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94673-371A-4892-8D1C-A44E1A0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4BEC-F43E-49E1-BB74-614CE48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3549-F045-4393-8CE6-71CFD252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CDE5-D886-4FA1-AB5F-9565AF99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CC9-C92A-429A-BE44-0EF42559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08C23-CC1D-4C83-977B-1157B351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00E4-2707-427D-A415-2C2F242D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B30EF-006F-402F-8A54-7459960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E0A5-6BF7-42C3-BB44-A18B518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9A72-7CA6-4EF2-A937-BD741366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74FA-D890-4963-B4CB-0A1FD419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538B-0E19-43AF-910B-6EC36A5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9CD4E-BD90-4DA6-84B9-345E7881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875A6-4B18-4405-B531-DC71420E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F704-0C3D-424D-BC90-C209345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7DD-FBF3-4A6B-B512-D49ECF46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A05F-4646-4757-BA95-88982BF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5C3A-8A86-443D-B9BF-4B1E3026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8A8FD-A781-453D-90F4-529921DB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A43A6-A544-4BB3-9A4D-29BDF50B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68BB7-F21F-4AB4-90A8-C8E5837E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B7A89-D09F-4A84-8B8D-29461BC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F4834-9E94-4EA5-890B-53354D25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1AD10-BAB3-4F02-8775-82F4E357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C0545-1D14-4E53-B0F6-300C13DF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6E54-0A65-4931-A442-1EA20F3D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B4F-37E2-4BD7-8BDB-3FF4267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E1C6-8D57-46F0-A340-98F110A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6712-C31B-435D-852C-B892B35B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E8FDC-ED70-4231-8557-07E2BDD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F7D00-EDF5-4E98-B700-CE120F02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A8E06-8C14-479B-BD94-C0AF1392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68C-993B-4FE3-9C30-87F96E4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021A-A8DD-407C-B264-A1B8621A907C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5171-39F1-410B-AC22-EB975DEAD01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E6F0-02D2-4AC2-84BF-1F756E2AC33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7863-C1D5-424B-BD74-BD77B2B145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1EA5-658F-43BA-A574-4F9473DE22A6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95DF-F95C-4577-817A-C9DCBE83FD9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B77B-4C2D-40C8-9BA0-B60DE01C9DE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C5A9-1705-41DA-A5C0-A28201630DD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6C49-6624-4B21-8836-E1FFE9CD8FCB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8DDE-5E83-4A68-A8BC-EB12075C88D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111-17F3-407C-BA79-B18E8F9AD2AE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4B94-557E-49EA-9F16-A8A2301C53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72B-034A-4C4A-9D6C-BBBB86957CAF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31B7-563D-4C76-AB42-29D5D86450B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дел биохимии, изучающий химические превращения, лежащие в основе функций органов, тканей и организма в цело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674-380C-40B0-A21D-FB25A7AEDE1C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"/>
          <p:cNvSpPr/>
          <p:nvPr/>
        </p:nvSpPr>
        <p:spPr>
          <a:xfrm>
            <a:off x="642960" y="27360"/>
            <a:ext cx="8001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липидов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желчные кислоты, при дефиците которых переваривания жиров практически не происходит. В регуляции метаболизма липидов печени принадлежит ведущая роль. Так, при дефиците основного энергетического материала - глюкозы, в печени активируется окисление жирных кислот. В условиях избытка глюкозы в гепатоцитах происходит синтез триглицеридов и фосфолипидов из жирных кислот, которые поступают в печень из кишечни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2A0-A98E-4185-973B-7367C032A88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214200" y="4665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и принадлежит ведущая роль в регуляции обмена холестерола. Исходное вещество в его синтезе - ацетил-КоА. Т. е. Избыточное питание стимулирует образование холестерол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синтезируются транспортные формы липопротеин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, кроме того, синтезируются кетоновые тела, в частност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цетоацет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идрооксимаслян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зносятся кровью по организму. Сердечная мышца и корковый слой надпочечников предпочитают в качестве источника энергии использовать именно эти соединения, а не глюкоз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252-F437-4297-9A5B-AEFBE8D3CFA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:\Documents and Settings\Admin\Рабочий стол\305.jpg"/>
          <p:cNvPicPr/>
          <p:nvPr/>
        </p:nvPicPr>
        <p:blipFill>
          <a:blip r:embed="rId1"/>
          <a:stretch/>
        </p:blipFill>
        <p:spPr>
          <a:xfrm>
            <a:off x="2357280" y="0"/>
            <a:ext cx="4542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2C3-904E-4781-8D7A-59225339246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571680" y="524880"/>
            <a:ext cx="8215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 белков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спользует АК, поступающие из пищеварительного тракта для синтеза собственных белков, но большая их часть идет на синтез белков плазмы крови. В печени синтезируются фибриноген, альбумины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обулины и липопротеиды. В печени синтезируется также т.н. лабильный резервный белок, который является как бы запасом АК, которые затем могут использоваться различными органами и тканями по мере необходим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занимает центральное место в обмене АК, т.к. в ней активно протекают процессы их химической модификации. Кроме того, именно в печени происходит синтез мочевин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435-8E5C-4F38-946D-25E8F45F696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D:\Documents and Settings\Admin\Рабочий стол\S14-08-vzaimosvjaz-treh-obmenov-obmenov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36B1-1461-4A09-8E69-CBE40D42621D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"/>
          <p:cNvSpPr/>
          <p:nvPr/>
        </p:nvSpPr>
        <p:spPr>
          <a:xfrm>
            <a:off x="571680" y="318960"/>
            <a:ext cx="714348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цирующая функция пече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ядовитых метаболитов и чужеродных соединений (ксенобиотиков) протекает в гепатоцитах в две стадии. Реакции первой стадии катализируются монооксигеназной системой, компоненты которой встроены  в мембраны эндоплазматического ретикулума. Реакции окисления, восстановления или гидролиза являются первой стадией  в системе выведения из организма гидрофобных молекул. Они превращают вещества в полярные водорастворимые метаболиты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ермент гемопротеид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итохромы Р-45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настоящему времени выявлено множество изоформ этого фермента и отнесено, в зависимости от их свойств и выполняемых функций, к нескольким семействам. У млекопитающих идентифицировано 13 подсемейств цх Р-450, условно считается, что ферменты семейства I-IV  участвуют в биотрансформации ксенобиотиков, остальные метаболизируют эндогенные соединения (стероидные гормоны, простатагландины, жирные кислоты и др.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свойством цх Р-450 является способность к индукции под действием экзогенных субстратов, что легло в основу классификации изоформ в зависимости от индуцируемости тем или веществом определенной химической структуры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000-9FE8-425C-8F62-13C1F6DA27C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500040" y="850680"/>
            <a:ext cx="7215120" cy="54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й стадии биотрансформации происходит образование или высвобождение гидрокси-, карбоксильных, тиоловых и аминогрупп, которые являются гидрофильными, и молекула может подвергаться дальнейшему превращению и выведению из организма. В качестве кофермента используется НАДФН. Кроме цх Р-450, в первой стадии биотрансформации принимают участие цх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цитохромредуктаз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лекарственные вещества, попадая в организм, превращаются на первой стадии биотрансформации в активные формы и оказывают необходимый лечебный эффект. Но часто ряд ксенобиотиков не детоксицируется, а наоборот токсифицируется с участием монооксигеназной системы и становится более реакционноспособным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метаболизма чужеродных веществ, образовавшихся на первой стадии биотрансформации, подвергаются дальнейшей детоксикации с помощью ряда реакций второй стадии.  Образующиеся  при этом соединения менее полярны и в связи с этим легко удаляются из клеток. Преобладающим является процесс конъюгации, катализируемый глутатион-S-трансферазой, сульфотрансферазой и UDP-глюкуронилтрансферазой. Конъюгацию с глутатионом, приводящую к образованию меркаптуровых кислот, принято рассматривать в качестве основного механизма детоксикации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F18-452C-4FB1-8CEF-11A12FA97579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D:\Documents and Settings\Admin\Рабочий стол\Новая папка\pech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101-4D6B-495A-BE25-F8456B5FEA22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D:\Documents and Settings\Admin\Рабочий стол\e7f6bc2cd695abf60cb801182e38c101.png"/>
          <p:cNvPicPr/>
          <p:nvPr/>
        </p:nvPicPr>
        <p:blipFill>
          <a:blip r:embed="rId1"/>
          <a:stretch/>
        </p:blipFill>
        <p:spPr>
          <a:xfrm>
            <a:off x="1571760" y="-1000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857160" y="23572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 (ведущий компонент редокс-буфера клетки) представляет собой соединение, содержащее реактивную тиоловую группу.  Большая его часть находится в восстановленной форме (GSH) и играет центральную роль в инактивации токсических и реактивных продуктов. Восстановление окисленного  глутатиона осуществляет фермент - глутатионредуктаза, используя как кофермент НАДФН. Коньюгаты с глутатионом, серной и глюкуроновой кислотами выводятся из организма преимущественно с мочо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E1D-7338-4973-BBD6-ECAB21FA5B49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D:\Documents and Settings\Admin\Рабочий стол\Glutathione-3D-vdW.pn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46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AE4-5061-4BA6-A3F4-84342727D94B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Прямоугольник 2" descr=""/>
          <p:cNvPicPr/>
          <p:nvPr/>
        </p:nvPicPr>
        <p:blipFill>
          <a:blip r:embed="rId1"/>
          <a:stretch/>
        </p:blipFill>
        <p:spPr>
          <a:xfrm>
            <a:off x="1000080" y="324000"/>
            <a:ext cx="7174080" cy="1133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500040" y="2000160"/>
            <a:ext cx="77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Прямоугольник 5"/>
          <p:cNvSpPr/>
          <p:nvPr/>
        </p:nvSpPr>
        <p:spPr>
          <a:xfrm>
            <a:off x="500040" y="1500120"/>
            <a:ext cx="7286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самый крупный из паренхиматозных органов. Она выполняет ряд ключевых функ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т и распределяет вещества, поступающие в организм из пищеварительного тракта, которые приносятся с кровью по воротной вене. Эти вещества проникают в гепатоциты, подвергаются химическим превращениям и в виде промежуточных или конечных метаболитов поступают в кровь и разносятся в другие органы и ткан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местом образования желч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ует вещества, которые используются в других тканя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ктивирует экзогенные и эндогенные токсические вещества, а также гормо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5597-F15F-4B5F-96D4-7141371093D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857160" y="381960"/>
            <a:ext cx="76438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ферментных систе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альность метаболических комплексов печени, основного органа поддержания химического гомеостаза,  определяет различие в ферментном составе между гепатоцитами перивенозной (центральной) и перипортальной (периферической) зон ацинуса (рис.4.16.1.). Это связано с их неодинаковой потребностью в кислороде различных ферментных систе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ибольшая концентрация ферментов ЦТК,  катаболизма амино- и жирных кислот, цикла мочевины, глюконеогенеза отмечена в перипортальной зон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ю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ее оксигенированную кровь. Поскольку компоненты реакций второй фазы биотрансформации локализованы в клетках этой зоны ацинуса, то они более защищены от действия токсических продуктов.  В гепатоцитах перицентральной зоны более активен гликолиз и первая стадия биотрансформации ксенобиотик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EEB-6606-431F-908F-1B3125FD72D1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D:\Documents and Settings\Admin\Рабочий стол\126.jpg"/>
          <p:cNvPicPr/>
          <p:nvPr/>
        </p:nvPicPr>
        <p:blipFill>
          <a:blip r:embed="rId1"/>
          <a:stretch/>
        </p:blipFill>
        <p:spPr>
          <a:xfrm>
            <a:off x="6357960" y="4240080"/>
            <a:ext cx="2286000" cy="261792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36360"/>
            <a:ext cx="6559560" cy="1133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642960" y="1214280"/>
            <a:ext cx="785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крови у различных животных составляет от 6,2 до 8% массы тела, причём у молодых животных относительный объём крови несколько больше. Кровь как жидкая ткань обеспечивает постоянство внутренней среды организма. Биохимические показатели крови занимают особое место и очень важны как для оценки физиологического статуса организма животного, так и для своевременной диагностики патологических состояний. Кровь обеспечивает взаимосвязь обменных процессов, протекающих в различных органах и тканях, выполняет также защитную, транспортную, регуляторную, дыхательную, терморегулирующую и другие функции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ь состоит из плазмы (55-60%) и взвешенных в ней форменных элементов – эритроцитов (39-44%), лейкоцитов (1%) 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в (0,1%). Благодаря наличию в крови белков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ритроцитов её вязкость в 4-6 раз выше вязкости вод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тояние крови в пробирке или центрифугировании с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ми скоростями форменные элементы её осаждаютс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078-AE4F-4545-9185-80005F0D1009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357120" y="285840"/>
            <a:ext cx="77151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е осаждение форменных элементов крови получило название реакции осаждения эритроцитов (РОЭ, теперь – СОЭ). Величина СОЭ (мм/час) для разных видов животных колеблется в широких пределах: если для собаки СОЭ практически совпадает с интервалом значений для человека (2-10 мм/час), то для свиньи и лошади не превышает 30 и 64 соответственно. Плазма крови, лишённая белка фибриногена, носит название сыворотки кров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рН крови для большинства животных находится в пределах 7,2 – 7,6. Осмотическое давление плазмы крови (7,0-8,0 атм.) определяется количеством в ней растворимых веществ (NaCl, NaHCO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фосфаты) и белков. Растворы солей, имеющие осмотическое давление, равное таковому нормальной сыворотки крови, называются изотоническими растворами (например, 0,9% раствор NaCl). Незначительная часть давления плазмы крови (несколько процентов) определяется белками и называется онкотическим давлением. Однако его роль важна для поддержания водного обмена организма: белки плазмы, удерживая воду в кровяном русле, предупреждает развитие тканевых отёков. Растворы с низким осмотическим давлением называются гипотоническими, а с высоким – гипертоническим. При введение в кровь они вызывают гемолиз и плазмолиз эритроцитов соответственн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81-DA8D-447D-90C2-5BEB9D3E876B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D:\Documents and Settings\Admin\Рабочий стол\analiz_krovi_1.jpg"/>
          <p:cNvPicPr/>
          <p:nvPr/>
        </p:nvPicPr>
        <p:blipFill>
          <a:blip r:embed="rId1"/>
          <a:stretch/>
        </p:blipFill>
        <p:spPr>
          <a:xfrm>
            <a:off x="1214280" y="0"/>
            <a:ext cx="6872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5F3-6D57-4100-86D6-4A2405523396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1"/>
          <p:cNvSpPr/>
          <p:nvPr/>
        </p:nvSpPr>
        <p:spPr>
          <a:xfrm>
            <a:off x="714240" y="571680"/>
            <a:ext cx="7929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Химический состав кров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рови животных представляет собой жидкость с плотностью 1,02 – 1,06. Повышение плотности крови может наблюдаться в случаях обезвоживания организма, вызванного длительными диареями, отсутствием питьевой воды. На долю сухого (плотного) остатка плазмы приходится менее 10%, а остальное – вода. Основную массу сухого остатка составляют белки, общая концентрация которых в плазме составляет 60 – 80 г/л. Сумма концентраций глобулинов и альбуминов составляет концентрацию общего белка плазмы крови. Повышение концентрации общего белка плазмы обычно наблюдается при обезвоживании организма. Снижение концентрации общего белка плазмы может быть следствием самых разнообразных причин – низкое содержание белка в рационе, нарушение процесса всасывания питательных веществ в пищеварительном тракте, болезни печени, почек, при которых теряется белок с мочо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0FB-DFD4-45D5-A372-1F7583270AA9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D:\Documents and Settings\Admin\Рабочий стол\1265615179_krov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0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857-EBA6-4EAB-9547-38A961427641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14200" y="642960"/>
            <a:ext cx="8786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й состав белков плазмы крови очень разнообразен. В клинической биохимии часто общий белок плазмы делят на отдельные фракции методом электрофореза, основанного на разделении белковых смесей по признаку различной величины массы и конкретного заряда одного белка. При электрофоретическом разделении в зависимости от носителя количество белковых фракций общего белка неодинаково. Независимо от вида электрофореза всегда выделяют основные фракции - альбумины и глобулины. Альбумины синтезируются в печени и являются простыми белками, содержащими до 600 аминокислотных остатков. Они хорошо растворимы в вод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83F-D7CB-4FF6-91B0-912117253CCB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1"/>
          <p:cNvSpPr/>
          <p:nvPr/>
        </p:nvSpPr>
        <p:spPr>
          <a:xfrm>
            <a:off x="642960" y="714240"/>
            <a:ext cx="79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альбуминов состоит в поддержании коллоидно-осмотического давления плазмы, постоянства концентрации водородных ионов, а также в транспорте различных веществ, включая билирубин, жирные кислоты, минеральные соединения и лекарственные препараты. Альбумины плазмы крови могут рассматриваться и как определённый резерв аминокислот для синтеза жизненно необходимых специфических белков в условиях дефицита белков в рационе. Альбумины удерживают воду в кровяном русле, а поэтому при гипоальбуминемиях могут быть отёки мягких тканей. При нефритах в мочу из плазмы крови проникают в первую очередь альбумины, как самые низкомолекулярные белки (молекулярная масса альбуминов составляет около 60000 – 66000). В норме на долю альбуминов приходится 35 – 55% от общего    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лков плазмы кров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444-BA9D-49C0-ADE2-B0B2A669701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1"/>
          <p:cNvSpPr/>
          <p:nvPr/>
        </p:nvSpPr>
        <p:spPr>
          <a:xfrm>
            <a:off x="428760" y="928800"/>
            <a:ext cx="7358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лины плазмы – это множество различных белков. При электрофорезе они перемещаются вслед за альбуминами. Как правило, в плазме они находятся в комплексе со стероидами, углеводами или фосфатами. Взаимосвязь с липидами обеспечивает комплексам глобулинов растворимое состояние и транспорт в различные ткани. В период интенсивного роста животного в крови отмечается относительное снижение уровня альбуминов и соответствующие повышение уровня α- и γ-глобулинов. β-глобулины активно взаимодействуют с липидами крови. γ-глобулины, наименее подвижная и наиболее тяжёлая фракция из всех глобулинов, синтезируются происходящими из части стволовых клеток костного мозга В-лимфоцитами или образующимися из них плазматическими клетками. Они выполняют главным образом функцию защиты, являясь защитными антителами (иммуноглобулинами). У млекопитающих их пять – IgG, IgM, IgE, IgD, IgA. В количественном плане в крови преобладает IgG (80%). Используя метод иммуноэлектрофореза, в крови выделяют до 30 белковых фракций. Каждый тип иммуноглобулинов может специфически взаимодействовать лишь с одним определённым антигено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3AC-7830-4435-B0A1-FDEB3E263204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D:\Documents and Settings\Admin\Рабочий стол\ateroskleroz.jpg"/>
          <p:cNvPicPr/>
          <p:nvPr/>
        </p:nvPicPr>
        <p:blipFill>
          <a:blip r:embed="rId1"/>
          <a:stretch/>
        </p:blipFill>
        <p:spPr>
          <a:xfrm>
            <a:off x="4165560" y="2209680"/>
            <a:ext cx="4978440" cy="464832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1"/>
          <p:cNvSpPr/>
          <p:nvPr/>
        </p:nvSpPr>
        <p:spPr>
          <a:xfrm>
            <a:off x="357120" y="1000080"/>
            <a:ext cx="7643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ждённые животные не способны в первые дни жизни синтезировать антитела. Они появляются только после поступления в желудочно-кишечный тракт молозива. Самостоятельный синтез этих защитных белков в костном мозге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зёнке, лимфатических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лах отмечается с 3- ил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недельного возрас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го. Поэтому важн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ить новорождённого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зивом, которое содержи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-20 раз больш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уноглобулинов, чем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е молоко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925-F530-4D46-A59F-53E3FFB0C93C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D:\Documents and Settings\Admin\Рабочий стол\Fibrotest_imagelarge.jpg"/>
          <p:cNvPicPr/>
          <p:nvPr/>
        </p:nvPicPr>
        <p:blipFill>
          <a:blip r:embed="rId1"/>
          <a:stretch/>
        </p:blipFill>
        <p:spPr>
          <a:xfrm>
            <a:off x="0" y="285840"/>
            <a:ext cx="9137520" cy="607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022-E26D-4A4C-BABE-17123D800DD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214200" y="35712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-лимфоциты кооперируются с В-лимфоцитами в синтезе иммуноглобулинов, тормозят иммунологические реакции, лизируют различные клетки. В крови Т-лимфоциты составляют 70%, В-лимфоциты – около 30%. Для синтеза иммуноглобулинов необходима и третья популяция клеток – макрофаги. Они выступают как первичные факторы неспецифической защиты, благодаря способности захватывать и переваривать микроорганизмы, антигены, иммунные комплексы, передавать информацию о них Т- и В-лимфацитам. Макрофаги выступают в роли посредников между всеми участниками процесса с помощью вырабатываемых клетками лимфокинов и монокин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лимфоциты вырабатывают антитела лишь против определённых, поступивших в организм антигенов (бактерий, вирусов).Для этого структура антигена и глобулинового рецептора на поверхности лимфоцита должны соответствовать друг другу, как ключ к замку. В этом случае лимфоцит начинает делиться и синтезировать антитела против вида антигена, вызвавшего ответную реакци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γ-глобулинов увеличивается в сыворотке крови при хронических инфекционных болезнях, при иммунизации, беременности животн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56B-865D-4D91-91E4-867831A7BA6C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D:\Documents and Settings\Admin\Рабочий стол\39312761_TLIMFOCITI.jp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B04-860C-4CF3-837E-A4F4CF5A78F5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1"/>
          <p:cNvSpPr/>
          <p:nvPr/>
        </p:nvSpPr>
        <p:spPr>
          <a:xfrm>
            <a:off x="571680" y="714240"/>
            <a:ext cx="75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ый ряд белков плазмы крови выполняет специфические функции. Среди них следует выделить такие белки, как трансферрин, гаптоглобин, церулоплазмин, пропердин, система комплимента, лизоцим, интерферо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рины являются β-глобулинами, синтезируемыми в печени. Связывая два атома железа на молекулу белка, они транспортируют этот элемент в различные ткани, регулируют его концентрацию и удерживают его в организме. По величине заряда белковой молекулы, аминокислотному составу различают 19 типов трансферринов, которые связаны с наследственностью. Трансферрины могут оказывать и прямой бактериостатический эффект. Концентрация трансферринов в сыворотке крови составляет около 2,9 г/л. Низкое содержание трансферринов в сыворотке крови может быть вызвано недостатком белков в рационе животног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E02-17AE-47E1-A5CB-12BD41469BD8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1"/>
          <p:cNvSpPr/>
          <p:nvPr/>
        </p:nvSpPr>
        <p:spPr>
          <a:xfrm>
            <a:off x="571680" y="428760"/>
            <a:ext cx="70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птоглобин входит в состав α-глобулиновой фракции сыворотки крови. Он образует комплексы с гемоглобином при гемолизе эритроцитов. В форме таких комплексов железо из разрушенных эритроцитов не выделяется в составе мочи из организма, так как эти комплексы не способны проходить через почки. Гаптоглобин выполняет также защитную функцию, участвуя в процессах детоксик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улоплазмин — α -глобулин, синтезирующийся в печени, имеет в своем составе медь (0,3%). Связывая медь, церулоплазмин обеспечивает должный уровень этого микроэлемента в тканях. На долю церулоплазмина приходится 3% всего количества меди организма животного. Он проявляет себя как фермент и как оксидант. Церулоплазмин является оксидазой адреналина, аскорбиновой кислоты. Важной характеристикой церулоплазмина является его способность окислять железо в тканях до Fe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понируя его в таком ви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617-ED44-43C6-8296-4111CC1EB096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D:\Documents and Settings\Admin\Рабочий стол\1229.jpg"/>
          <p:cNvPicPr/>
          <p:nvPr/>
        </p:nvPicPr>
        <p:blipFill>
          <a:blip r:embed="rId1"/>
          <a:stretch/>
        </p:blipFill>
        <p:spPr>
          <a:xfrm>
            <a:off x="0" y="-1000080"/>
            <a:ext cx="9144000" cy="794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2BA-1103-484D-A795-194FF6F5B5F5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рямоугольник 1"/>
          <p:cNvSpPr/>
          <p:nvPr/>
        </p:nvSpPr>
        <p:spPr>
          <a:xfrm>
            <a:off x="357120" y="500040"/>
            <a:ext cx="842976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племен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комплекс сывороточных белков глобулиновой природы, который рассматривается как система проэнзимов, активация которых приводит к цитолизу, разрушению антигена. Синтез системы комплемента, насчитывающей до 25 разных белков, осуществляется преимущественно мононуклеарньми фагоцитами, а также гистиоцитами. Это сложная эффекторная система белков сыворотки, играющая важную роль в регуляции иммунного ответа и в поддержании гомеостаза, в плане фило- и онтогенеза возникла раньше иммунной системы. В составе системы комплемента детально изучены 11 компонентов. Каскад ферментативных реакций, запускаемый комплексом антиген-антитело и приводящий к последовательной активации всех компонентов комплемента, начиная с первого, называется классическим путем активации. Обходной путь, который характеризуется активацией более поздних компонентов комплемента, начиная с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альтернативным. Разрушение микробной клетки наступает только после активации компонента С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рминальные белки системы комплемента, последовательно реагируя один с другим, внедряются в двойной слой липидов, повреждая клеточную мембрану с образованием мембранных каналов, что и приводит к осмотическим нарушениям, проникновению внутрь клетки антител, комплемента с последующим лизисом внутриклеточных мембран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F52-BFAC-48B9-9B5F-592A76677046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D:\Documents and Settings\Admin\Рабочий стол\9a.jpg"/>
          <p:cNvPicPr/>
          <p:nvPr/>
        </p:nvPicPr>
        <p:blipFill>
          <a:blip r:embed="rId1"/>
          <a:stretch/>
        </p:blipFill>
        <p:spPr>
          <a:xfrm>
            <a:off x="571680" y="0"/>
            <a:ext cx="7837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7CF-FFEA-4706-9615-BB0C8DEB103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D:\Documents and Settings\Admin\Рабочий стол\425px-Complement_death.PNG"/>
          <p:cNvPicPr/>
          <p:nvPr/>
        </p:nvPicPr>
        <p:blipFill>
          <a:blip r:embed="rId1"/>
          <a:stretch/>
        </p:blipFill>
        <p:spPr>
          <a:xfrm>
            <a:off x="0" y="0"/>
            <a:ext cx="9001080" cy="692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0EE-E859-4379-A719-C1D5CBBC196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D:\Documents and Settings\Admin\Рабочий стол\144.jpg"/>
          <p:cNvPicPr/>
          <p:nvPr/>
        </p:nvPicPr>
        <p:blipFill>
          <a:blip r:embed="rId1"/>
          <a:stretch/>
        </p:blipFill>
        <p:spPr>
          <a:xfrm>
            <a:off x="2238480" y="0"/>
            <a:ext cx="46670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804-EB85-412F-B552-41B9CFD910C5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285840" y="214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Значение биохимического экспресс-анализа крови в клинической практи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500040" y="107172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, во всем мире происходит рост заболеваемости, связанной с хроническими неинфекционными патологиями. Такие заболевания, как сахарный диабет и атеросклероз, не только снижают качество жизни, но и приводят к развитию различных осложнений, угрожающих жизни. Применение ранней диагностики значительно улучшает прогноз таких состояний, позволяя выявить патологию на начальных этапах развития и назначить соответствующее лечение. Важное значение следует уделять и постоянному контролю показателей углеводного и липидного обмена, поскольку это позволяет оценить эффективность проводимой терапии и, по необходимости, корректировать ее. Осознание значительной части населения о необходимости проведения регулярного мониторинга состояния своего здоровья и развитие институтов семейной медицины в Российской Федерации также требует наличия соответствующих  экспресс-анализатор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29B-7CB6-4844-8C3A-DEB7AC841D7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>
            <a:off x="1000080" y="736920"/>
            <a:ext cx="735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троения гепатоци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разнообразные функции обусловлены особенностями строения печени и ее отдельных клеток. Гепатоцит имеет хорошо развитую систему эндоплазматического ретикулума (ЭР), причем как гладкую, так и шероховатую. Одна из главных функций ЭР - синтез белков, которые используются другими органами и тканями (альбумины), или ферментов работающих в печени. Кроме того, в ЭР синтезируются фосфолипиды, триглицериды и холестерол. Гладкий ЭР содержит ферменты детоксикации ксенобиотик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F8-77C1-4390-8856-4EC8831EC7A3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785880" y="1000080"/>
            <a:ext cx="8072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на данный момент, наиболее оптимальным и единственным анализатором для биохимического экспресс-анализа крови является анализатор CardioChek. Данные анализаторы сочетают в себе достоверность результатов, получаемых в центральной лаборатории, со скоростью и удобством экспресс-тестов. Кроме того, они сочетают в себе широкий спектр диагностических анализов при сравнительной невысокой цен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6FA-A264-4B49-A312-0178F7E0B5EC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95732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2"/>
          <p:cNvSpPr/>
          <p:nvPr/>
        </p:nvSpPr>
        <p:spPr>
          <a:xfrm>
            <a:off x="1071720" y="2357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соединитель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стоянства тканевой проницаемости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водно-солевого равновеси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иммунной защите организм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D23-DDE9-4771-8AF0-D26FB88736C1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142920" y="642960"/>
            <a:ext cx="9001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Состав и строение соединительной ткан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В соединительной ткани различают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ежклеточное (основное) вещество, клеточные элементы, волокнистые структуры (коллагеновые волокна). Особенность: межклеточного вещества гораздо больше, чем клеточных элементов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C36-73D8-4D02-AEC0-752E776E2E69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D:\Documents and Settings\Admin\Рабочий стол\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4E4-8454-49CF-B92A-3E3CE5935E8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D:\Documents and Settings\Admin\Рабочий стол\image001(5)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5BD-BA13-4660-B012-6DDB7C1A8A64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"/>
          <p:cNvSpPr/>
          <p:nvPr/>
        </p:nvSpPr>
        <p:spPr>
          <a:xfrm>
            <a:off x="500040" y="42876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клеточное (основное) веществ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образная консистенция основного вещества объясняется его составом. Основное вещество - это сильно гидратированный гель, который образован высокомолекулярными соединениями, составляющими до 30 % массы межклеточного вещества. Оставшиеся 70 % - это во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молекулярные компоненты представлены белками и углеводами. Углеводы по своему строению являются гетерополисахаридами - глюкозоаминогликаны (ГАГ). Эти гетерополисахариды построены из дисахаридных единиц, которые и являются их мономерам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ению мономеров различают 7 типов глюкозаминогликан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луроновая кисло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4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ндроитин-6-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ат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ансульф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парин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1F3-4386-4067-BA66-F1072AE0728A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D:\Documents and Settings\Admin\Рабочий стол\connective_tissue_loose_areolar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0A4-D3C2-4E4E-BB1D-5613520269ED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Прямоугольник 3" descr=""/>
          <p:cNvPicPr/>
          <p:nvPr/>
        </p:nvPicPr>
        <p:blipFill>
          <a:blip r:embed="rId1"/>
          <a:stretch/>
        </p:blipFill>
        <p:spPr>
          <a:xfrm>
            <a:off x="-365040" y="-6480"/>
            <a:ext cx="9655200" cy="100008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4"/>
          <p:cNvSpPr/>
          <p:nvPr/>
        </p:nvSpPr>
        <p:spPr>
          <a:xfrm>
            <a:off x="571680" y="1000080"/>
            <a:ext cx="7715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и виды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ая ткань составляет 40 % от веса тела человека. Биохимические процессы, протекающие в мышцах, оказывают большое влияние на весь организм человек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мышц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 постоянной температуре. Ни один искусственный механизм к этому не способен. Механическое движение, в котором химическая энергия превращается в механическую при постоянном давлении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о-полосатая мускулатур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един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аркомер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ая нить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молекул белка миозина. Миозин - крупный олигомерный белок, молекулярная масса 500 кДа, состоит из 6 субъединиц, попарно одинаковых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ая цеп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-конце - -спираль, на N-конце - глобула. При соединении двух тяжелых цепей С-концевыми участками образуется суперспираль. Две легкие цепи входят в состав глобулы (головки). Стержневой участок суперспирали имеет 2 отдела, где спирали оголены - эти места открыты для действия протеолитических ферментов и имеют повышенную подвижност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8A0-94B3-42FF-97DD-FD4056973CA0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D:\Documents and Settings\Admin\Рабочий стол\1204175445e2ee5.jpg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DC3-AF06-4A35-8B60-1A7348C3E420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D:\Documents and Settings\Admin\Рабочий стол\ms1_c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C83-3622-4E46-8689-5AC2FE2051D7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D:\Documents and Settings\Admin\Рабочий стол\Новая папка\p5300197-liver_cells_sem-spl.png"/>
          <p:cNvPicPr/>
          <p:nvPr/>
        </p:nvPicPr>
        <p:blipFill>
          <a:blip r:embed="rId1"/>
          <a:stretch/>
        </p:blipFill>
        <p:spPr>
          <a:xfrm>
            <a:off x="1000080" y="-15840"/>
            <a:ext cx="7286760" cy="68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E14-EF3E-4518-A25B-9EA6C5F67C9B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714240" y="714240"/>
            <a:ext cx="7000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ция сокращения и расслабления мышц в живой клет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ое сокращение начинается с нервного импульса. Под воздействием ацетилхолина развивается возбуждение клеточной мембраны и резко повышается ее проницаемость дл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ет в цитоплазму мышечной клетки (саркоплазма) из депо - цистерн цитоплазматического ретикулума.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аркоплазме мгновенно увеличивается в 100 раз (с 10-7М до 10-5М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ий связывается с тропонином "С". Это приводит к конформационным изменениям молекулы тропонина, в результате устраняется пространственное препятствие в виде тропонина "I", в результате конформационных изменений тропонина "Т" молекула тропомиозина оттягивается в сторону и открывает на поверхности актина миозин-связывающие центры. Дальше мышечное сокращение идет по схем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FC0-84F8-4774-AE5C-BBE4B915326D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214200" y="357120"/>
            <a:ext cx="8215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аблени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оизошло расслабление мышцы, необходимы следующие условия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тропонина "С" о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ля этого работает мембрано-связанный фермен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Этот фермент использует энергию гидролиза АТФ для переноса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в цистерны против градиента их концентраций. Накоплению ионов кальция в цистернах помогает белок кальсеквестрин. Кальсеквестрин - связыв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. Когда мышца готова к сокращению, концентрация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истернах вели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процесс сокращения, но и процесс расслабления нуждается в АТФ, потому что если нет АТФ, то не работает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исимая АТФаза. В этих условиях кальций связан с тропонином "С" - вся система находится в активном состоянии, нет распада актомиозинового комплекса - мышца постоянно находится в состоянии сокращения. Такая ситуация наблюдается после смерти человека в состоянии "трупного окоченения"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сы АТФ в клетке значительны, но их хватает для обеспечения мышечной работы только в течение 0.1 секунды. Но в мышечной клетке идет очень быстрый ресинтез АТФ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мышечной ткани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нь быстрые изменения концентрации АТФ (в 100 и более раз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57F-D4CC-4ECB-A543-AB962267D13B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214200" y="14292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энергообеспечения мышечной ткан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энергии следующи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з, гликогенолиз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е фосфорилирование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реакции субстратного фосфорилировани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пециальных реакций субстратного фосфорилирования в обеспечении энергией мышечной клетки различна - это зависит от интенсивности, продолжительности, мощности и длительности мышечной работ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фосфокиназная реакци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ый быстрый способ ресинтеза АТФ. Запасов креатинфосфата хватает для обеспечения мышечной работы в течение 20 с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эффективе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ебует присутствия кислорода, не дает побочных нежелательных продуктов, включается мгновенно. Его недостаток - малый резерв субстрата (хватает только на 20 с работы). Обратная реакция может протекать в митохондриях с использованием АТФ, образовавшейся в процессе окислительного фосфорилиров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а митохондрий хорошо проницаема как для креатина, так и для креатин-фосфата, а креатинфосфокиназа есть и в саркоплазме, и в межмембранном пространстве митохондр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AA1-5115-4F8D-A1E5-5AC17F05A7FE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Прямоугольник 1" descr=""/>
          <p:cNvPicPr/>
          <p:nvPr/>
        </p:nvPicPr>
        <p:blipFill>
          <a:blip r:embed="rId1"/>
          <a:stretch/>
        </p:blipFill>
        <p:spPr>
          <a:xfrm>
            <a:off x="-450720" y="36360"/>
            <a:ext cx="9594720" cy="113364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2"/>
          <p:cNvSpPr/>
          <p:nvPr/>
        </p:nvSpPr>
        <p:spPr>
          <a:xfrm>
            <a:off x="571680" y="121428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воему со cтаву и процессам метаболизма нервная ткань значительно отличается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функциональная клетка нервной ткани - нейрон - связана с помощью дендритов и аксонов с такими же клетками и клетками других типов, например, с секреторными и мышечными клетками. Клетки разделены синаптическими щелями. Связь между клетками осуществляется путем передачи сигнала. Сигнал проходит от тела нейрона по аксону до синапса. В синаптическую щель выделяется вещество-медиатор. Медиатор вступает в связь с рецепторами на другой стороне синаптической щели. Это обеспечивает восприятие сигнала и генерацию нового сигнала в клетке-акцептор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664-2563-4E5D-B29A-82275F5C71FB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Documents and Settings\Admin\Рабочий стол\8800602a.GIF"/>
          <p:cNvPicPr/>
          <p:nvPr/>
        </p:nvPicPr>
        <p:blipFill>
          <a:blip r:embed="rId1"/>
          <a:stretch/>
        </p:blipFill>
        <p:spPr>
          <a:xfrm>
            <a:off x="428760" y="0"/>
            <a:ext cx="8189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471-639D-4C83-A337-3656A20BFBA0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:\Documents and Settings\Admin\Рабочий стол\iStock_000006935624Smal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7FF-98DE-4DCF-87FF-D0124F4C1ECE}" type="slidenum">
              <a:t>55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ик 1"/>
          <p:cNvSpPr/>
          <p:nvPr/>
        </p:nvSpPr>
        <p:spPr>
          <a:xfrm>
            <a:off x="642960" y="57168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НЕРВНОЙ ТКАН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енерация электрического сигнала (нервного импульса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дение нервного импульс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оминание и хранение информаци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Формирование эмоций и поведения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ышлени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280-BA9E-43BB-97C1-3EC944B90576}" type="slidenum">
              <a:t>56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714240" y="7858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 ХИМИЧЕСКОГО СОСТАВА И МЕТАБОЛИЗМА НЕРВНОЙ ТКАН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у нервной ткани определяет гематоэнцефалический барьер (ГЭБ). ГЭБ имеет избирательную проницаемость для различных метаболитов, а также способствует накоплению некоторых веществ в нервной ткани. Например, в нервной ткани на долю глутамата и аспартата приходится примерно 70-75% от общего количества аминокислот. Таким образом, внутренняя среда нервной ткани намного отличается по химическому составу от других тканей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175-0DD3-4860-9152-C00D8692DC55}" type="slidenum">
              <a:t>57</a:t>
            </a:fld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1"/>
          <p:cNvSpPr/>
          <p:nvPr/>
        </p:nvSpPr>
        <p:spPr>
          <a:xfrm>
            <a:off x="428760" y="47484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ИДЫ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И ЛИПИДОВ НЕРВНОЙ ТКАН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уктурная: входят в состав клеточных мембран нейрон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я диэлектриков (обеспечивают надежную электрическую изоляцию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щитная. Ганглиозиды являются очень активными антиоксидантами - ингибиторами перекисного окисления липидов (ПОЛ). При повреждении ткани мозга ганглиозиды способствуют ее заживлению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гуляторная. Фосфатидилинозиты являются предшественниками биологически активных вещест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липидов нервной ткани находится в составе плазматических и субклеточных мембран нейронов и в миелиновых оболочках. В нервной ткани по сравнению с другими тканями организма содержание липидов очень высоко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83E-9D2F-49CD-B8A3-889E17A6236B}" type="slidenum">
              <a:t>58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571680" y="214200"/>
            <a:ext cx="757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липидного состава нервной ткани: есть фосфолипиды (ФЛ), гликолипиды (ГЛ) и холестерин (ХС), нет нейтральных жиров. Эфиры холестерина можно встретить только в участках активной миелинизации. Сам холестерин синтезируется интенсивно только в развивающемся мозге. В мозге взрослого человека низка активность ОМГ-КоА-редуктазы - ключевого фермента синтеза холестерина. Содержание свободных жирных кислот в мозге очень низко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нейромедиаторы после взаимодействия со специфическими рецепторами изменяют свою конформацию и изменяют конформацию фермента фосфолипазы С, которая катализирует расщепление связи в фосфатидилинозите между глицерином и остатком фосфата, в результате чего образуется фосфоинозитол и диацилглицерин. Эти вещества являются регуляторами внутриклеточного метаболизма. Диацилглицерин активирует протеинкиназу С, а фосфоинозитол вызывает повышение концентрации Са 2+. Ионы кальция влияют на активность внутриклеточных ферментов и участвуют в работе сократительных элементов нервных клеток: микрофиламентов, что обеспечивает передвижение различных веществ в теле нервной клетки, аксоне и растущем кончике аксона. Протеинкиназа С участвует в реакциях фосфорилирования белков внутри нервных клеток. Если это белки-ферменты, то меняется их активность, если это рибосомальные или ядерные белки, то изменяется скорость биосинтеза белко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D9E1-3961-45F0-AE1D-A84D7B633F03}" type="slidenum">
              <a:t>59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D:\Documents and Settings\Admin\Рабочий стол\Новая папка\images.jpeg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1071720" y="0"/>
            <a:ext cx="65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патоциты похожи на печень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15A-E370-4EAF-A8A6-92CA86A4DE8C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85840" y="100008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ы постоянно обновляются. Скорость их обновления различна, но в целом низка.. Некоторые липиды (например: холестерин, цереброзиды, фосфатидилэтаноламины, сфингомиелины) обмениваются медленно - в течение месяцев и даже лет. Исключение составляют фосфатидилхолин и, особенно, фосфатидилинозиты (содержат глицерин, фосфат, спирт (инозит), жирные кислоты) - они обмениваются очень быстро (сутки, недели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EC4-8565-439F-B05B-D6745A530F3E}" type="slidenum">
              <a:t>60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500040" y="666360"/>
            <a:ext cx="778680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печени в метаболизме углеводо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 играет ведущую роль в поддержании физиологической концентрации глюкозы в крови. Из общего количества поступающей из кишечника глюкозы печень извлекает ее большую часть и тратит: 10-15 % от этого количества на синтез гликогена, 60 % на окислительный распад, 30 % на синтез жирных кисло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изиологической гипогликемии в печени активируется распад гликогена. Первая стадия этого процесса заключается в отщеплении молекулы глюкозы и ее фосфорилировании (фермент фосфорилаза). Далее Глю-5-Ф может расходоваться по трем направлениям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ути глтколиза с образованием пировиноградной кислоты и лактата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нтозофосфатному пути;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яться под действием фосфотазы на глюкозу и фосфо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последний путь, который приводит к выбросу в общий кровоток свободной глюкоз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025-2DE0-4E45-B736-B84961E5B527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642960"/>
            <a:ext cx="75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чени активно протекает глюконеогенез, при котором предшественниками глюкозы являются пируват и аланин (поступающий из мышц), глицерол - из жировой ткани и с пищей ряд глюкогенных АК. Избыточное поступление глюкозы с пищей увеличивает в гепатоците интенсивность всех путей ее превращения. Так активируется ее окисление с образованием большого количества пирувата.  Для его дальнейшего окисления необходимо также большое количество КоА, который также используется и для окисления жирных кислот. В результате окисление жирных кислот и распад липидов в жировых депо замедляетс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D574-06D6-4417-9729-81F3848497F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:\Documents and Settings\Admin\Рабочий стол\заболевание-печени.jpg"/>
          <p:cNvPicPr/>
          <p:nvPr/>
        </p:nvPicPr>
        <p:blipFill>
          <a:blip r:embed="rId1"/>
          <a:stretch/>
        </p:blipFill>
        <p:spPr>
          <a:xfrm>
            <a:off x="1143000" y="-3240"/>
            <a:ext cx="7572240" cy="68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EDA-8950-46A3-B2A1-A6F73CD39DC8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4:37:47Z</dcterms:created>
  <dc:creator>Юлия Сергеевна</dc:creator>
  <dc:description/>
  <dc:language>en-US</dc:language>
  <cp:lastModifiedBy>Admin</cp:lastModifiedBy>
  <dcterms:modified xsi:type="dcterms:W3CDTF">2012-05-10T06:47:14Z</dcterms:modified>
  <cp:revision>45</cp:revision>
  <dc:subject/>
  <dc:title>Функциональная биохимия</dc:title>
</cp:coreProperties>
</file>